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9E9-93D3-4ED4-BB46-80B2802B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A1B-D10E-4FBC-A67D-0CBC4655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2B0-AD61-47B7-AF73-1D07E5FA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9EC-02AF-44AC-AEC4-67EFC905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F4B-EA0D-43A1-BDED-794F9627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4BB-F34A-4B36-8201-FDA1D894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BF7-B0E7-4AEE-BFF6-9E7E9249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B71-4FBB-432F-A6A2-047D78DB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01A-FDD0-4D3A-9415-444ED448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785-09C3-4F68-977F-1B810A7C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A1B-AE4C-49C6-BB46-712B6D7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A31-8D60-4785-B4E3-BE334801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6DFE-8EE2-4939-8DE7-77BA3DC7E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slide2.xml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y 2 1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y 1 1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00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HHS</cp:lastModifiedBy>
  <dcterms:modified xsi:type="dcterms:W3CDTF">2005-09-07T20:22:28Z</dcterms:modified>
  <cp:revision>37</cp:revision>
  <dc:subject/>
  <dc:title>No Slide Title</dc:title>
</cp:coreProperties>
</file>